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EA9F-497E-4AA7-A2C6-EB0A4E810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6ADC-229B-40E2-A6A1-66B880473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E4944-D1C8-4D34-8381-3B4FC45F61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147CB-6640-4F3B-94E1-AC12FE819E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AAB44-9882-4D24-A15D-AECD87D2C6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5322E-090C-4C0D-A9B7-44B77DD538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9D4A-C3A9-404F-B5F5-BBEE4F59C78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9F88-6544-4BB0-9F0E-12B3423445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11E3-9211-404D-B820-2756B01345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0C22-7669-4CFC-9A95-7C4A445142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96F1-206B-4726-8F50-C05BDDEBB2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7297-5D1A-4568-BBDE-E4B83341A2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180B-3905-4558-9543-B486893EA1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93249-B925-4A57-8951-4304BB5AF5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F67A-244E-4661-833C-B12399DA27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EF01-1476-4114-8F75-31DEB8F52E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A58C-623B-4306-A6A4-ACBCF471FE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5361-07EC-4024-83A6-C510484028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B0C3-6116-4751-9DEE-4495C470E2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5667B-03E6-4192-A217-6BF20D48BC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E3044-3D2E-47CF-8DF0-5BEDF56E0C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43D5E-DB4C-4141-8176-F7A5D4A053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226B6-6BC6-4517-A4FE-6F68B46BE3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D5728-1B46-412E-A681-5FB1AEBBBD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F6539-9C48-4D42-B29A-1F0E2B9F56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FDB33-D885-4D59-A4D9-B35224A87E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mprovement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CDA0-EBD1-42FC-A72F-D851B6104F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paho_286_logo"/>
          <p:cNvPicPr/>
          <p:nvPr/>
        </p:nvPicPr>
        <p:blipFill>
          <a:blip r:embed="rId2"/>
          <a:stretch/>
        </p:blipFill>
        <p:spPr>
          <a:xfrm>
            <a:off x="7696080" y="6211800"/>
            <a:ext cx="1371600" cy="56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5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41F3-099B-4BC4-A698-B194770138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1"/>
          <p:cNvSpPr/>
          <p:nvPr/>
        </p:nvSpPr>
        <p:spPr>
          <a:xfrm>
            <a:off x="457200" y="642924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8557-4813-4D83-BB51-94E0C875B3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3124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1062000"/>
            <a:ext cx="8458200" cy="52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«В вашей лаборатории были выявлены проблемы с пробами, поступающими в лабораторию из определенной поликлиники. Некоторые пробы транспортировались в лабораторию явно с задержкой, а ряд проб был собран в неподходящие контейнеры. Эти проблемы приводили к задержкам в выполнении анализов и к отказам в приеме проб. Для исправления ситуации был проведен ряд улучшений в ведении записей и на месте сбора проб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990720" y="487692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2-08-04T06:45:48Z</dcterms:modified>
  <cp:revision>66</cp:revision>
  <dc:subject/>
  <dc:title>Slide 1</dc:title>
</cp:coreProperties>
</file>